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A18903-E92F-4091-B26B-8BD7FA790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3F1BF4-9CCC-4AC2-97AA-AA50861D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6ECD57D-0D10-400C-90D9-4B32CD0C2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869781-A743-4A5A-AF93-10A2DFFB8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8CB94-4602-4EE5-B22C-812D79A4F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51778-F3DF-4103-82E3-1141C7A4F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B9C25-A276-420E-9091-6AF60EC8D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FC3D4-FB14-4810-AC34-8EB73A676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B5977-7604-4342-A157-B7D32D119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AC5E2-B83E-44B6-BD20-7D7BB3066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5F31-7362-4E01-A599-8F461A213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F857F2-4C3C-4F20-B61B-B3997D4E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1680F-8989-4118-8256-5BA97CAFB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38124-CD13-424A-8899-FB264EE91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D4288-5CD6-4DE2-85FC-AE5E574D5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EA94E-6C1D-46A2-9AAB-8FB7CEE10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08B89-831E-470E-A931-D3A56D86B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E93101-905A-4CB4-A638-3D361DC9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290A02-01A3-4D4E-BAF7-837530D8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ED2BBA-9889-497B-B140-6B6FED2C5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96DA19-18F5-405F-8FCD-A66E08A88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BF354B-62E6-403F-82C9-7E701F235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B9B5DB-F72F-450C-9650-2882D6D2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CE32C5-EA0A-47B8-8E18-F080FEF1E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BC98-E35D-4ADC-B429-822DBFAE61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Picture 16" descr="e5"/>
          <p:cNvPicPr/>
          <p:nvPr/>
        </p:nvPicPr>
        <p:blipFill>
          <a:blip r:embed="rId2">
            <a:lum bright="70000" contrast="-70000"/>
          </a:blip>
          <a:stretch/>
        </p:blipFill>
        <p:spPr>
          <a:xfrm>
            <a:off x="0" y="0"/>
            <a:ext cx="939960" cy="108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B2AB-A655-42E1-B649-F4BF4C9B71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ontent.nejm.org/"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What actually happens in an Emergency Department?</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remy Ackerm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2209680" y="22096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228600" y="1295280"/>
            <a:ext cx="609480" cy="49460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GE</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2</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2</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4</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8</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4</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2</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4</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6</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6" name=""/>
          <p:cNvSpPr/>
          <p:nvPr/>
        </p:nvSpPr>
        <p:spPr>
          <a:xfrm>
            <a:off x="685800" y="1295280"/>
            <a:ext cx="2514600" cy="49460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IEF COMPLAINT</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ladder infe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for 2 week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ckle cell, abdominal pain for 2 week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lank pain for 2 weeks (pulmonary embolism)</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usea, vomiting, dehydration, abdominal pain </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RUQ x1 week, acutely wor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 (renal transplant with UT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 history of prostate and stomach canc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yspnea x3 weeks, j</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 nausea, vomiting, pyleonephr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ut on upper arm</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ck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for 5 month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atigue and weight loss for six months, can't walk</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thma attack</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omiting blood</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thma attack</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ye pain and blurred vis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lank/hip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ching and rash</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usea, vomiting, dehydration, </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vaginal discharge, multiple other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stipation, aneur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usea, vomiting, abdominal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est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wollen finger and dyspne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uttock pain, malai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est pain, non-Hodgkin's lymphom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nausea, vomitin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vere low back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iratory distres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est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mbative behavoir and twitchin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7" name=""/>
          <p:cNvSpPr/>
          <p:nvPr/>
        </p:nvSpPr>
        <p:spPr>
          <a:xfrm>
            <a:off x="3124080" y="1295280"/>
            <a:ext cx="685800" cy="508032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O</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DU</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CU</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nsf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8" name=""/>
          <p:cNvSpPr/>
          <p:nvPr/>
        </p:nvSpPr>
        <p:spPr>
          <a:xfrm>
            <a:off x="3733920" y="1295280"/>
            <a:ext cx="3124080" cy="508032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TIONS</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transfuse, antibioti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ltrasound, lab</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T, lab, EKG, CX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ultrasound</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antibiotics, IVF, C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antibiotics, CX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KG, CXR, lab</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F, lab, antibiotic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uture and hemostas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T, lab,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XR,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XR,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hamology</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ed, security</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edica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F, meds, lab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XR, antibiotic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 CT,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EKG, CXR,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XR, EKG,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T, med, I&amp;D</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XR, EKG,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 EKG, C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XR, intubation, central line, ventilator, antibiotic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T, 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9" name=""/>
          <p:cNvSpPr/>
          <p:nvPr/>
        </p:nvSpPr>
        <p:spPr>
          <a:xfrm>
            <a:off x="6172200" y="1295280"/>
            <a:ext cx="3505320" cy="508032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AGNOSIS</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ladder cancer, anemia, urinary obstru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elvic pain uncertai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ckle cell pain, abdominal pain uncertai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lmonary embolism</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uncertai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olelithiasis with coli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vs. reje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kely UT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gestive heart failure exacerbation, acute renal failur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leonephr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cera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umbar disk disease, chronic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unknow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hyponatremia, likely canc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thma exacerbation with bronch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st tonsilectomy hemorrag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neumon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rneal abraision and conjunctiv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iate dependence, opiate abuse, chronic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ergic rea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astroenter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BV, bipola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stipation, severe dement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renal transplan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ny operations, intractable vomiting and abdominal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ute M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gestive heart failure, ainflammatory arthritis vs. infectiou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cess, UT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leural effusion, chest pain, possible recurrance of lymphoma after BM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uncertain , possibly ulc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kidney stone, chronic pain, hemipeligia, s/p strok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neumonia, CHF, respiratory failure, s/p strok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nxiety</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ementia, anem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30" name=""/>
          <p:cNvSpPr/>
          <p:nvPr/>
        </p:nvSpPr>
        <p:spPr>
          <a:xfrm>
            <a:off x="2514600" y="3049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overnight eight-hour shif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tatistic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tal patients: 34 in 16 hours =2.125/h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t*:</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11</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35%</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harg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23</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65%</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ssions 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nsfer</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1</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CU</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1</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bservation</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1</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4"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7000"/>
          </a:bodyPr>
          <a:p>
            <a:pPr marL="44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Emergency medicine is the medical specialty dedicated to the diagnosis and treatment of unforeseen illness or injury. It encompasses a unique body of knowledge as set forth in the “Model of the Clinical Practice of Emergency Medicine.” The practice of emergency medicine includes the initial evaluation, diagnosis, treatment, and disposition of any patient requiring expeditious medical, surgical, or psychiatric care…” </a:t>
            </a:r>
            <a:endParaRPr b="0" lang="en-US" sz="3200" spc="-1" strike="noStrike">
              <a:solidFill>
                <a:srgbClr val="ffffff"/>
              </a:solidFill>
              <a:latin typeface="Garamond"/>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merican College of Emergency Physicians </a:t>
            </a:r>
            <a:endParaRPr b="0" lang="en-US" sz="2400" spc="-1" strike="noStrike">
              <a:solidFill>
                <a:srgbClr val="ffffff"/>
              </a:solidFill>
              <a:latin typeface="Garamond"/>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t>
            </a:r>
            <a:r>
              <a:rPr b="0" lang="en-US" sz="2400" spc="-1" strike="noStrike">
                <a:solidFill>
                  <a:srgbClr val="ffffff"/>
                </a:solidFill>
                <a:latin typeface="Garamond"/>
              </a:rPr>
              <a:t>Definition of Emergency Medici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 descr=""/>
          <p:cNvPicPr/>
          <p:nvPr/>
        </p:nvPicPr>
        <p:blipFill>
          <a:blip r:embed="rId1"/>
          <a:stretch/>
        </p:blipFill>
        <p:spPr>
          <a:xfrm>
            <a:off x="457200" y="1600200"/>
            <a:ext cx="8229600" cy="4525920"/>
          </a:xfrm>
          <a:prstGeom prst="rect">
            <a:avLst/>
          </a:prstGeom>
          <a:ln w="0">
            <a:noFill/>
          </a:ln>
        </p:spPr>
      </p:pic>
      <p:pic>
        <p:nvPicPr>
          <p:cNvPr id="107" name="" descr=""/>
          <p:cNvPicPr/>
          <p:nvPr/>
        </p:nvPicPr>
        <p:blipFill>
          <a:blip r:embed="rId2"/>
          <a:stretch/>
        </p:blipFill>
        <p:spPr>
          <a:xfrm>
            <a:off x="2666880" y="3429000"/>
            <a:ext cx="6276960" cy="3286080"/>
          </a:xfrm>
          <a:prstGeom prst="rect">
            <a:avLst/>
          </a:prstGeom>
          <a:ln w="0">
            <a:noFill/>
          </a:ln>
        </p:spPr>
      </p:pic>
      <p:pic>
        <p:nvPicPr>
          <p:cNvPr id="108" name="" descr=""/>
          <p:cNvPicPr/>
          <p:nvPr/>
        </p:nvPicPr>
        <p:blipFill>
          <a:blip r:embed="rId3"/>
          <a:stretch/>
        </p:blipFill>
        <p:spPr>
          <a:xfrm>
            <a:off x="1752480" y="457200"/>
            <a:ext cx="5591160" cy="2809800"/>
          </a:xfrm>
          <a:prstGeom prst="rect">
            <a:avLst/>
          </a:prstGeom>
          <a:ln w="0">
            <a:noFill/>
          </a:ln>
        </p:spPr>
      </p:pic>
      <p:pic>
        <p:nvPicPr>
          <p:cNvPr id="109" name="" descr="ERShane West as Ray Barnett and Goran Visnjic as Dr. Luka Kovac star in the episode "/>
          <p:cNvPicPr/>
          <p:nvPr/>
        </p:nvPicPr>
        <p:blipFill>
          <a:blip r:embed="rId4"/>
          <a:stretch/>
        </p:blipFill>
        <p:spPr>
          <a:xfrm>
            <a:off x="304920" y="1447920"/>
            <a:ext cx="3962160" cy="264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BC's second longest-running dram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ongest-running American primetime medical drama of all ti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premiered on September 19, 1994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en aired on Thursday nights at 10:00 for its entire ru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season will be the last and will end in February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s it accurat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ript of the 1994 pilot was essential unchanged from the movie script written in the early 70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of the leaders of emergency medicine have made came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ularly cite recent articles and update patient management to reflect current standard of ca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
            </a:r>
            <a:r>
              <a:rPr b="1" lang="en-US" sz="1400" spc="-1" strike="noStrike">
                <a:solidFill>
                  <a:srgbClr val="ffffff"/>
                </a:solidFill>
                <a:latin typeface="Garamond"/>
              </a:rPr>
              <a:t>Cardiopulmonary Resuscitation on Television — Miracles and Misinformation”</a:t>
            </a:r>
            <a:br>
              <a:rPr sz="1400"/>
            </a:br>
            <a:r>
              <a:rPr b="0" lang="en-US" sz="1400" spc="-1" strike="noStrike">
                <a:solidFill>
                  <a:srgbClr val="ffffff"/>
                </a:solidFill>
                <a:latin typeface="Garamond"/>
              </a:rPr>
              <a:t>Susan J. Diem, M.D., M.P.H., John D. Lantos, M.D., and James A. Tulsky, M.D.</a:t>
            </a:r>
            <a:r>
              <a:rPr b="0" i="1" lang="en-US" sz="1400" spc="-1" strike="noStrike">
                <a:solidFill>
                  <a:srgbClr val="ffffff"/>
                </a:solidFill>
                <a:latin typeface="Garamond"/>
              </a:rPr>
              <a:t> NEJM </a:t>
            </a:r>
            <a:r>
              <a:rPr b="1" lang="en-US" sz="1400" spc="-1" strike="noStrike">
                <a:solidFill>
                  <a:srgbClr val="ffffff"/>
                </a:solidFill>
                <a:latin typeface="Garamond"/>
              </a:rPr>
              <a:t>Volume 334:1578-1582</a:t>
            </a:r>
            <a:r>
              <a:rPr b="0" lang="en-US" sz="1400" spc="-1" strike="noStrike">
                <a:solidFill>
                  <a:srgbClr val="ffffff"/>
                </a:solidFill>
                <a:latin typeface="Garamond"/>
              </a:rPr>
              <a:t> </a:t>
            </a:r>
            <a:r>
              <a:rPr b="1" lang="en-US" sz="1400" spc="-1" strike="noStrike">
                <a:solidFill>
                  <a:srgbClr val="ffffff"/>
                </a:solidFill>
                <a:latin typeface="Garamond"/>
              </a:rPr>
              <a:t>June 13, 1996</a:t>
            </a:r>
            <a:r>
              <a:rPr b="0" lang="en-US" sz="1400" spc="-1" strike="noStrike">
                <a:solidFill>
                  <a:srgbClr val="ffffff"/>
                </a:solidFill>
                <a:latin typeface="Garamond"/>
              </a:rPr>
              <a:t> </a:t>
            </a:r>
            <a:r>
              <a:rPr b="1" lang="en-US" sz="1400" spc="-1" strike="noStrike">
                <a:solidFill>
                  <a:srgbClr val="ffffff"/>
                </a:solidFill>
                <a:latin typeface="Garamond"/>
              </a:rPr>
              <a:t>Number 24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BSTRACT</a:t>
            </a:r>
            <a:r>
              <a:rPr b="0" lang="en-US" sz="1400" spc="-1" strike="noStrike">
                <a:solidFill>
                  <a:srgbClr val="ffffff"/>
                </a:solidFill>
                <a:latin typeface="Garamond"/>
              </a:rPr>
              <a:t>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Background</a:t>
            </a:r>
            <a:r>
              <a:rPr b="0" lang="en-US" sz="1400" spc="-1" strike="noStrike">
                <a:solidFill>
                  <a:srgbClr val="ffffff"/>
                </a:solidFill>
                <a:latin typeface="Garamond"/>
              </a:rPr>
              <a:t> Responsible, shared decision making on the part of physicians and patients about the potential use of cardiopulmonary resuscitation (CPR) requires patients who are educated about the procedure's risks and benefits. Television is an important source of information about CPR for patients. We analyzed how three popular television programs depict CPR.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Methods</a:t>
            </a:r>
            <a:r>
              <a:rPr b="0" lang="en-US" sz="1400" spc="-1" strike="noStrike">
                <a:solidFill>
                  <a:srgbClr val="ffffff"/>
                </a:solidFill>
                <a:latin typeface="Garamond"/>
              </a:rPr>
              <a:t> We watched all the episodes of the television programs </a:t>
            </a:r>
            <a:r>
              <a:rPr b="0" i="1" lang="en-US" sz="1400" spc="-1" strike="noStrike">
                <a:solidFill>
                  <a:srgbClr val="ffffff"/>
                </a:solidFill>
                <a:latin typeface="Garamond"/>
              </a:rPr>
              <a:t>ER</a:t>
            </a:r>
            <a:r>
              <a:rPr b="0" lang="en-US" sz="1400" spc="-1" strike="noStrike">
                <a:solidFill>
                  <a:srgbClr val="ffffff"/>
                </a:solidFill>
                <a:latin typeface="Garamond"/>
              </a:rPr>
              <a:t> and </a:t>
            </a:r>
            <a:r>
              <a:rPr b="0" i="1" lang="en-US" sz="1400" spc="-1" strike="noStrike">
                <a:solidFill>
                  <a:srgbClr val="ffffff"/>
                </a:solidFill>
                <a:latin typeface="Garamond"/>
              </a:rPr>
              <a:t>Chicago Hope</a:t>
            </a:r>
            <a:r>
              <a:rPr b="0" lang="en-US" sz="1400" spc="-1" strike="noStrike">
                <a:solidFill>
                  <a:srgbClr val="ffffff"/>
                </a:solidFill>
                <a:latin typeface="Garamond"/>
              </a:rPr>
              <a:t> during the 1994–1995 viewing season and 50 consecutive episodes of </a:t>
            </a:r>
            <a:r>
              <a:rPr b="0" i="1" lang="en-US" sz="1400" spc="-1" strike="noStrike">
                <a:solidFill>
                  <a:srgbClr val="ffffff"/>
                </a:solidFill>
                <a:latin typeface="Garamond"/>
              </a:rPr>
              <a:t>Rescue 911</a:t>
            </a:r>
            <a:r>
              <a:rPr b="0" lang="en-US" sz="1400" spc="-1" strike="noStrike">
                <a:solidFill>
                  <a:srgbClr val="ffffff"/>
                </a:solidFill>
                <a:latin typeface="Garamond"/>
              </a:rPr>
              <a:t> broadcast over a three-month period in 1995. We identified all occurrences of CPR in each episode and recorded the causes of cardiac arrest, the identifiable demographic characteristics of the patients, the underlying illnesses, and the outcomes.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Results</a:t>
            </a:r>
            <a:r>
              <a:rPr b="0" lang="en-US" sz="1400" spc="-1" strike="noStrike">
                <a:solidFill>
                  <a:srgbClr val="ffffff"/>
                </a:solidFill>
                <a:latin typeface="Garamond"/>
              </a:rPr>
              <a:t> There were 60 occurrences of CPR in the 97 television episodes — 31 on </a:t>
            </a:r>
            <a:r>
              <a:rPr b="0" i="1" lang="en-US" sz="1400" spc="-1" strike="noStrike">
                <a:solidFill>
                  <a:srgbClr val="ffffff"/>
                </a:solidFill>
                <a:latin typeface="Garamond"/>
              </a:rPr>
              <a:t>ER,</a:t>
            </a:r>
            <a:r>
              <a:rPr b="0" lang="en-US" sz="1400" spc="-1" strike="noStrike">
                <a:solidFill>
                  <a:srgbClr val="ffffff"/>
                </a:solidFill>
                <a:latin typeface="Garamond"/>
              </a:rPr>
              <a:t> 11 on </a:t>
            </a:r>
            <a:r>
              <a:rPr b="0" i="1" lang="en-US" sz="1400" spc="-1" strike="noStrike">
                <a:solidFill>
                  <a:srgbClr val="ffffff"/>
                </a:solidFill>
                <a:latin typeface="Garamond"/>
              </a:rPr>
              <a:t>Chicago Hope,</a:t>
            </a:r>
            <a:r>
              <a:rPr b="0" lang="en-US" sz="1400" spc="-1" strike="noStrike">
                <a:solidFill>
                  <a:srgbClr val="ffffff"/>
                </a:solidFill>
                <a:latin typeface="Garamond"/>
              </a:rPr>
              <a:t> and 18 on </a:t>
            </a:r>
            <a:r>
              <a:rPr b="0" i="1" lang="en-US" sz="1400" spc="-1" strike="noStrike">
                <a:solidFill>
                  <a:srgbClr val="ffffff"/>
                </a:solidFill>
                <a:latin typeface="Garamond"/>
              </a:rPr>
              <a:t>Rescue 911.</a:t>
            </a:r>
            <a:r>
              <a:rPr b="0" lang="en-US" sz="1400" spc="-1" strike="noStrike">
                <a:solidFill>
                  <a:srgbClr val="ffffff"/>
                </a:solidFill>
                <a:latin typeface="Garamond"/>
              </a:rPr>
              <a:t> In the majority of cases, cardiac arrest was caused by trauma; only 28 percent were due to primary cardiac causes. Sixty-five percent of the cardiac arrests occurred in children, teenagers, or young adults. Seventy-five percent of the patients survived the immediate arrest, and 67 percent appeared to have survived to hospital discharge.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Conclusions</a:t>
            </a:r>
            <a:r>
              <a:rPr b="0" lang="en-US" sz="1400" spc="-1" strike="noStrike">
                <a:solidFill>
                  <a:srgbClr val="ffffff"/>
                </a:solidFill>
                <a:latin typeface="Garamond"/>
              </a:rPr>
              <a:t> The survival rates in our study are significantly higher than the most optimistic survival rates in the medical literature, and the portrayal of CPR on television may lead the viewing public to have an unrealistic impression of CPR and its chances for success. Physicians discussing the use of CPR with patients and families should be aware of the images of CPR depicted on television and the misperceptions these images may foster. </a:t>
            </a:r>
            <a:endParaRPr b="0" lang="en-US" sz="14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6" name="" descr="The New England Journal of Medicine">
            <a:hlinkClick r:id="rId1"/>
          </p:cNvPr>
          <p:cNvPicPr/>
          <p:nvPr/>
        </p:nvPicPr>
        <p:blipFill>
          <a:blip r:embed="rId2"/>
          <a:stretch/>
        </p:blipFill>
        <p:spPr>
          <a:xfrm>
            <a:off x="2133720" y="457200"/>
            <a:ext cx="4591080" cy="9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of what we do:</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mergency stabilization of critically ill pati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management of critically ill pati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reen for psychiatric illnes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bstetrics and gynecology</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diatric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nor surgical procedures – wound repair, central lines, I&amp;D</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jor surgical procedures – chest tubes, thoracotomy</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rthopedics – reducing fractures and dislocations, splinting</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diology – EKG interpretation, management of arrhythmia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phthalmology – eye trauma, eye infection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fectious diseas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reen for child abuse and domestic violenc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terpret radiographic studi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rform radiographic studies – ultrasound</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utine medical care</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
          <p:cNvSpPr/>
          <p:nvPr/>
        </p:nvSpPr>
        <p:spPr>
          <a:xfrm>
            <a:off x="533520" y="5715000"/>
            <a:ext cx="7696080" cy="122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f someone in the hospital does it, we probably do it too!</a:t>
            </a:r>
            <a:endParaRPr b="0"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r at least we have to know when to call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important fact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ionally:</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dmission rate from the ED is between 15 and 20%</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D accounts for a growing percentage of all hospital admissions (&gt;50%)</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ergency Departments are the only place everyone is guaranteed access to medical care under federal law</a:t>
            </a:r>
            <a:endParaRPr b="0" lang="en-US" sz="24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smaller hospitals, the Emergency physician may be the only physician physically in the hospital</a:t>
            </a:r>
            <a:endParaRPr b="0" lang="en-US" sz="28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y EDs see all ages from neonates to 100+</a:t>
            </a:r>
            <a:endParaRPr b="0" lang="en-US" sz="28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R Diversion” does not stop the patients from com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2280"/>
            <a:ext cx="77724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t>
            </a:r>
            <a:r>
              <a:rPr b="1" lang="en-US" sz="3600" spc="-1" strike="noStrike">
                <a:solidFill>
                  <a:srgbClr val="e5e5ff"/>
                </a:solidFill>
                <a:latin typeface="Garamond"/>
              </a:rPr>
              <a:t>When I come to work, as I get ready to leave my driveway, I say, ‘Dear Lord, help me not to make a mistake tonight,’ and when I leave the hospital, I say, ‘Dear God, thank you for getting me and my patients through another night.’” </a:t>
            </a:r>
            <a:br>
              <a:rPr sz="3600"/>
            </a:br>
            <a:r>
              <a:rPr b="1" lang="en-US" sz="3600" spc="-1" strike="noStrike">
                <a:solidFill>
                  <a:srgbClr val="e5e5ff"/>
                </a:solidFill>
                <a:latin typeface="Garamond"/>
              </a:rPr>
              <a:t>	</a:t>
            </a:r>
            <a:r>
              <a:rPr b="1" lang="en-US" sz="3600" spc="-1" strike="noStrike">
                <a:solidFill>
                  <a:srgbClr val="e5e5ff"/>
                </a:solidFill>
                <a:latin typeface="Garamond"/>
              </a:rPr>
              <a:t>– Arthur D. Kellerman, MD</a:t>
            </a:r>
            <a:endParaRPr b="1" lang="en-US" sz="3600" spc="-1" strike="noStrike">
              <a:solidFill>
                <a:srgbClr val="e5e5ff"/>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21:33:22Z</dcterms:created>
  <dc:creator>Jeremy</dc:creator>
  <dc:description/>
  <dc:language>en-US</dc:language>
  <cp:lastModifiedBy>Jeremy</cp:lastModifiedBy>
  <dcterms:modified xsi:type="dcterms:W3CDTF">2008-08-19T18:09:35Z</dcterms:modified>
  <cp:revision>4</cp:revision>
  <dc:subject/>
  <dc:title>Slide 1</dc:title>
</cp:coreProperties>
</file>